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276720" y="5410080"/>
            <a:ext cx="3125520" cy="839880"/>
          </a:xfrm>
          <a:custGeom>
            <a:avLst/>
            <a:gdLst/>
            <a:ahLst/>
            <a:rect l="l" t="t" r="r" b="b"/>
            <a:pathLst>
              <a:path w="1969" h="529">
                <a:moveTo>
                  <a:pt x="0" y="288"/>
                </a:moveTo>
                <a:lnTo>
                  <a:pt x="240" y="0"/>
                </a:lnTo>
                <a:lnTo>
                  <a:pt x="1968" y="240"/>
                </a:lnTo>
                <a:lnTo>
                  <a:pt x="1728" y="528"/>
                </a:lnTo>
                <a:lnTo>
                  <a:pt x="0" y="288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19320" y="4724280"/>
            <a:ext cx="5182920" cy="2592360"/>
          </a:xfrm>
          <a:custGeom>
            <a:avLst/>
            <a:gdLst/>
            <a:ahLst/>
            <a:rect l="l" t="t" r="r" b="b"/>
            <a:pathLst>
              <a:path w="3265" h="1633">
                <a:moveTo>
                  <a:pt x="0" y="960"/>
                </a:moveTo>
                <a:lnTo>
                  <a:pt x="336" y="1632"/>
                </a:lnTo>
                <a:lnTo>
                  <a:pt x="768" y="1632"/>
                </a:lnTo>
                <a:lnTo>
                  <a:pt x="3024" y="960"/>
                </a:lnTo>
                <a:lnTo>
                  <a:pt x="3264" y="672"/>
                </a:lnTo>
                <a:lnTo>
                  <a:pt x="2064" y="0"/>
                </a:lnTo>
                <a:lnTo>
                  <a:pt x="1632" y="0"/>
                </a:lnTo>
                <a:lnTo>
                  <a:pt x="240" y="672"/>
                </a:lnTo>
                <a:lnTo>
                  <a:pt x="0" y="960"/>
                </a:lnTo>
              </a:path>
            </a:pathLst>
          </a:custGeom>
          <a:solidFill>
            <a:srgbClr val="dadad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1752480"/>
            <a:ext cx="2730600" cy="52092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6200000">
            <a:off x="1949400" y="1339560"/>
            <a:ext cx="520560" cy="135900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01960" y="1758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1568520" y="1797120"/>
            <a:ext cx="520560" cy="1358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21080" y="22161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6880" y="2216160"/>
            <a:ext cx="2730240" cy="52056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3000" y="2286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943600" y="2286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600" y="17524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0400" y="17524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76160" y="1219320"/>
            <a:ext cx="205740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1219320"/>
            <a:ext cx="205740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95480" y="121896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23880" y="1218960"/>
            <a:ext cx="221004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121896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219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57880" y="1219320"/>
            <a:ext cx="19047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743200"/>
            <a:ext cx="5335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2209680"/>
            <a:ext cx="8380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362320" y="2209680"/>
            <a:ext cx="8380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362320" y="2742840"/>
            <a:ext cx="35812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64080" y="5416560"/>
            <a:ext cx="2730240" cy="36828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101680" y="4920840"/>
            <a:ext cx="368280" cy="135864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8280" y="5416560"/>
            <a:ext cx="672840" cy="368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1720800" y="5378040"/>
            <a:ext cx="368280" cy="135900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7040" y="5873760"/>
            <a:ext cx="673200" cy="368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82840" y="5873760"/>
            <a:ext cx="2730600" cy="368280"/>
          </a:xfrm>
          <a:prstGeom prst="rtTriangl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19320" y="57913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920" y="57913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90920" y="54100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76720" y="54100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752120" y="472428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7920" y="472428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4723920"/>
            <a:ext cx="8380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4724280"/>
            <a:ext cx="22096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57600" y="4723920"/>
            <a:ext cx="8380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6248520"/>
            <a:ext cx="5331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752120" y="5867280"/>
            <a:ext cx="83844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437920" y="5867280"/>
            <a:ext cx="83844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7315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438280" y="6248160"/>
            <a:ext cx="358164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410080"/>
            <a:ext cx="1753920" cy="839880"/>
          </a:xfrm>
          <a:custGeom>
            <a:avLst/>
            <a:gdLst/>
            <a:ahLst/>
            <a:rect l="l" t="t" r="r" b="b"/>
            <a:pathLst>
              <a:path w="1105" h="529">
                <a:moveTo>
                  <a:pt x="0" y="528"/>
                </a:moveTo>
                <a:lnTo>
                  <a:pt x="240" y="240"/>
                </a:lnTo>
                <a:lnTo>
                  <a:pt x="1104" y="0"/>
                </a:lnTo>
                <a:lnTo>
                  <a:pt x="864" y="288"/>
                </a:lnTo>
                <a:lnTo>
                  <a:pt x="0" y="52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886200"/>
            <a:ext cx="68580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733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19920" y="2286000"/>
            <a:ext cx="380880" cy="4572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4382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819520"/>
            <a:ext cx="26668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6668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52280" y="1219320"/>
            <a:ext cx="2133720" cy="259056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86000" y="1219320"/>
            <a:ext cx="1371600" cy="0"/>
          </a:xfrm>
          <a:prstGeom prst="line">
            <a:avLst/>
          </a:prstGeom>
          <a:ln w="648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52280" y="3809880"/>
            <a:ext cx="1447920" cy="0"/>
          </a:xfrm>
          <a:prstGeom prst="line">
            <a:avLst/>
          </a:prstGeom>
          <a:ln w="648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096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5960" y="2743200"/>
            <a:ext cx="1066680" cy="129528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743200"/>
            <a:ext cx="1219320" cy="144792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038480"/>
            <a:ext cx="472464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8862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209680"/>
            <a:ext cx="0" cy="5335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3623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1828800"/>
            <a:ext cx="380880" cy="304920"/>
          </a:xfrm>
          <a:prstGeom prst="parallelogram">
            <a:avLst>
              <a:gd name="adj" fmla="val 8457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5486400"/>
            <a:ext cx="381240" cy="304920"/>
          </a:xfrm>
          <a:prstGeom prst="parallelogram">
            <a:avLst>
              <a:gd name="adj" fmla="val 846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352680" y="761760"/>
            <a:ext cx="838440" cy="106668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81280" y="761760"/>
            <a:ext cx="762120" cy="99036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838080"/>
            <a:ext cx="30492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6720" y="838080"/>
            <a:ext cx="30492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838080"/>
            <a:ext cx="152280" cy="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685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e Maße in cm, Maßhilfslinien in bla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66720" y="198108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1143000"/>
            <a:ext cx="228600" cy="106668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990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0" y="1752480"/>
            <a:ext cx="1447920" cy="45720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91120" y="2057400"/>
            <a:ext cx="838080" cy="60948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002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4T11:25:06Z</dcterms:created>
  <dc:creator/>
  <dc:description/>
  <dc:language>en-US</dc:language>
  <cp:lastModifiedBy>Unknown User</cp:lastModifiedBy>
  <cp:lastPrinted>1997-04-04T12:27:16Z</cp:lastPrinted>
  <dcterms:modified xsi:type="dcterms:W3CDTF">2003-01-04T17:59:47Z</dcterms:modified>
  <cp:revision>6</cp:revision>
  <dc:subject/>
  <dc:title>PowerPoint-Präsentation</dc:title>
</cp:coreProperties>
</file>